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376-EF61-41C3-86B0-BC516C1C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76F-A064-4E0F-834E-93AFB9C9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038-ED87-483B-A12E-4D4CB174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529-7BAC-4A6E-9FDD-4ADBD12A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6DFD-95D0-473D-9B04-02166898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3565-7E41-4B89-B668-5114799B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2379-06AF-48C6-80FD-AF15D9A3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C89D-E40F-4359-BE45-91F5D65A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05F0-BD9D-4E91-8292-0E208161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685C-16BF-4B85-8A33-9E248981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0E71-EEFA-4DC9-8219-46F8B26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92C-1E67-4518-84BE-7D27CA41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D6D7-FA7F-4AD4-A817-3C82E527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2C44-B414-4BF2-A8D9-996C55A3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B643-F345-4BE3-B3CC-907C5878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CE8E-B133-40DB-93CE-FEC06087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14C4-C634-41A9-BAE0-44EB6996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121A-61A5-43BE-AA0B-868D8A36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E1D-FA03-4D9D-A969-5FC86388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A85-BF05-4643-A809-68ACE0C9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93D6-55F9-47B7-8017-E7732647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287-47CE-44A2-A09C-1F0D83AF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D5F-729B-49FF-B62D-51CF6B9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C68-AF98-4987-B388-E6913E27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246C-F543-4789-9160-B58FFC2193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C04D-24D0-42F3-BCE6-F5F1C2A877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irednewyork.com/bridges/brooklyn_bridge/images/brooklyn_manhattan_bridge_26may0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etours.com/New_Orleans/images/FQ/Brbn/Bourbon_Orleans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inetours.com/New_Orleans/images/FQ/FM/French_Mkt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alt Whitman and Emily Dickins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he Romantic Poe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0520" y="2460600"/>
          <a:ext cx="1251000" cy="2209680"/>
        </p:xfrm>
        <a:graphic>
          <a:graphicData uri="http://schemas.openxmlformats.org/drawingml/2006/table">
            <a:tbl>
              <a:tblPr/>
              <a:tblGrid>
                <a:gridCol w="1251000"/>
              </a:tblGrid>
              <a:tr h="249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103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               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8" name="" descr="Walt Whitman"/>
          <p:cNvPicPr/>
          <p:nvPr/>
        </p:nvPicPr>
        <p:blipFill>
          <a:blip r:embed="rId1"/>
          <a:stretch/>
        </p:blipFill>
        <p:spPr>
          <a:xfrm>
            <a:off x="6019920" y="1295280"/>
            <a:ext cx="312408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514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mily Dickins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1830-1886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2920" y="685440"/>
            <a:ext cx="34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We never know how high we are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ill we are called to rise;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nd then, if we are true to plan,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Our statures touch the skies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09480" y="518148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Hope is a thing with feathers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at perches in the soul,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nd sings the tune without words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And never stops at all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rn into a wealthy New England family and had a happy childhood.  Everyone assumed she would grow up to marry and have a fami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t 24, her father took her on a business trip to separate Emily from a drastic situation…she had fallen in love with a married man she could never marr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3240" y="6233040"/>
            <a:ext cx="32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auty is not caused. It is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60480" y="60840"/>
            <a:ext cx="728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ehavior is what a man does, not what he thinks, feels, or believes.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3301560"/>
            <a:ext cx="769320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ronically, while on the trip, she fell in love with another married man, Charles Wadsworth, a Presbyterian minister.  She was once again separated from the man she lov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then withdrew from all social life except involving her famil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2240" y="-15120"/>
            <a:ext cx="81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ogs are better than human beings because they know but do not tell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2863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ily alon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in a few years, Emily was dressing in all white and lived in total seclus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 only activities included writing her poems and household cho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[Dickinson Homestead]"/>
          <p:cNvPicPr/>
          <p:nvPr/>
        </p:nvPicPr>
        <p:blipFill>
          <a:blip r:embed="rId1"/>
          <a:stretch/>
        </p:blipFill>
        <p:spPr>
          <a:xfrm>
            <a:off x="0" y="4210200"/>
            <a:ext cx="4010040" cy="2647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991200" y="0"/>
            <a:ext cx="21528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ily’s Poe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only printed a handful of her poems during her life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, she made sure that she left bundles of her poems to be found after her deat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mily and friends edited her poems and published them in numerous install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r poems were brief and contained brilliant metapho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86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ily’s Sty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2738520"/>
            <a:ext cx="7693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unconventional punctuation and capitaliz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 her lines and stanzas are very brie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of her poetry is writing in quatrai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ually, only the second and fourth lines in her quatrains rhy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often uses slant or partial rhym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has a tendency to use figurative language to convey her ide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24080" cy="2590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y are considered to be the two greatest poets of the nineteenth century! </a:t>
            </a:r>
            <a:br>
              <a:rPr sz="3600"/>
            </a:br>
            <a:br>
              <a:rPr sz="24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Be curious, not judgmental.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Whitma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If I can stop one heart from breaking,</a:t>
            </a:r>
            <a:br>
              <a:rPr sz="24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I shall not live in vain: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Dickinson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495680" y="2666880"/>
            <a:ext cx="76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lt Whitm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1819-189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Walt Whitman"/>
          <p:cNvPicPr/>
          <p:nvPr/>
        </p:nvPicPr>
        <p:blipFill>
          <a:blip r:embed="rId1"/>
          <a:stretch/>
        </p:blipFill>
        <p:spPr>
          <a:xfrm>
            <a:off x="5334120" y="2133720"/>
            <a:ext cx="361944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800440"/>
            <a:ext cx="76932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He came from a large family (seven brothers and sisters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Had the opportunity to live in both a country setting and the city of New York (Brooklyn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He attended school until he was eleven, then worked as a printer’s assistant and a teacher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14668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44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                                               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Brooklyn Brid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0"/>
            <a:ext cx="441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               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Worked in journalism until the age of thirty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Moved to New Orleans to continue journalism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ventually returned to New York as a journalist and part-time carpenter/contracto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He kept journals and diaries that became the basis for much of his literary work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Bourbon Orleans Hotel pic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0"/>
            <a:ext cx="22669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French Market entrance pictu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0"/>
            <a:ext cx="2590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e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ed on cadence, which is the long, easy sweep of sound that echoes the Bible and the speeches or orators and preach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dence was the base for free verse, which is poetry without rhyme or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 1855, he published his most important collection of poetry,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Leaves of Gra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He revised it nine times before his death in 1892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9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lt’s Sty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Frequently uses catalogs– the piling up of images or concrete details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xample from “Song of Myself”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3366"/>
                </a:solidFill>
                <a:latin typeface="Arial"/>
              </a:rPr>
              <a:t>My tongue, every atom of my blood, formed from this soil, this air/Born here of parents born here from parents the same, and their parents the same” </a:t>
            </a: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(lines 6-7)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26480" y="-360"/>
            <a:ext cx="66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O captain! my captain! our fearful trip is done;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e ship has weathered every rack, the prize we sought is won;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e port is near, the bells I hear, the people all exulting,</a:t>
            </a:r>
            <a:br>
              <a:rPr sz="1800"/>
            </a:b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While follow eyes the stead keel, the vessel grim and daring.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y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s catalogs here represent the spiritual unity among all forms of be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frequently uses parallelism—the repeated use of phrases, clauses, or sentences that are similar in structure or mean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of parallelism helps to create a sense of unity within his poetry and it also provides a structure, creates a rhythm, and emphasizes important ide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y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ses free verse– verse that has irregular meter and line length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hitman was the first American poet to use free ver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His use of free verse allowed him to express himself without restrai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3:45:11Z</dcterms:created>
  <dc:creator>PBCSD</dc:creator>
  <dc:description/>
  <dc:language>en-US</dc:language>
  <cp:lastModifiedBy>PBCSD</cp:lastModifiedBy>
  <dcterms:modified xsi:type="dcterms:W3CDTF">2007-11-07T14:37:34Z</dcterms:modified>
  <cp:revision>31</cp:revision>
  <dc:subject/>
  <dc:title>Walt Whitman and Emily Dickinson</dc:title>
</cp:coreProperties>
</file>